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580-B2C8-48EE-852F-17B318B1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5F4-67F5-4FF2-9072-C5DD9233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D9E-B853-4DF1-AC03-8B496E91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823-F152-4607-95E0-42441A4A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5F3E-BAF6-437E-A35F-52450FDB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2914-A301-4282-866F-D6D8D638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BB25-ED08-492D-B0A3-4A1872CD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2C08-4FEB-48EF-9DD9-852D259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4B5C-0D32-475E-98D3-414B54DA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85CF-DD0A-4DC7-8A77-A3DF4C81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909E-793E-455E-8D84-C485894C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601-5361-4920-851F-3CA19115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BFAA-2754-40CD-9C02-2D1B16D9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96C0-A3B8-46A0-ABEF-2C7B848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5D74-3F5A-403C-9A85-E17149BB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69A0-4305-4401-9376-A36704A0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3992-80D9-43C0-A4FD-56B62A45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DEC-486D-426E-93B6-A2EE0438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915-4735-4140-BA2F-68E54862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2B4-AC0E-432E-918B-584BD125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993-6F44-40F1-A1F8-5022D1EF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AE5-11BB-4986-9F76-337B10EF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687-5464-4607-AFA9-EB06939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CE0-0294-403A-BAAD-9C423A0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2B69-635E-44B4-8DA9-8468C858AA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B698-B77C-4A58-A369-B575755ADE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бор консольных креплени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дбора консольных креплений для траншей из двутавровых балок и стальных труб с учетом требуемой глубины траншеи и характеристик грунт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15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52400" y="559584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проведения подбора необходимо указать глубину траншеи и физико-механические характеристики  грунта. Подбор осуществляется по расчетным таблицам "Альбома технологических карт на разработку траншей в креплениях для подземных коммуникаций. Часть 3. Расчетные таблицы для подбора элементов консольных креплений" (Трест Мосоргинжстрой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455840" y="750960"/>
            <a:ext cx="639900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подбора консольных крепл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1338120" y="1530360"/>
            <a:ext cx="6873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6:51Z</dcterms:modified>
  <cp:revision>301</cp:revision>
  <dc:subject/>
  <dc:title>Слайд 1</dc:title>
</cp:coreProperties>
</file>